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12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328-F29E-48C6-97FF-7195623A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ABE-9C2A-40B0-980A-B85F32AD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203-AC3B-4F5D-9A64-82128D4F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CA2-F18E-4FA5-A31C-C6F22227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455-EFF5-43D7-B660-F2114D53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71B-F421-45EF-A4E6-E8E1873B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E59-23E7-4897-B537-A3FC6098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B87-EB7A-4E06-946E-752ED69D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B5F-8641-411A-AD14-B600E972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A69-CEFA-4E4D-8527-2AA7021F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918-905E-4B31-A8A2-5750D52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56A-9255-42F7-B974-E0975192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BCB1-D60A-42BB-A18B-D8B3BD2626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565F-C355-4A8E-B2E0-4D41725D3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15000" y="23623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da Rush - Notre Dame Schoo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A524D-0E78-4AC5-94B3-ADCA9C0D29F2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lly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tyd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hro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uti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4085"/>
          <a:stretch/>
        </p:blipFill>
        <p:spPr>
          <a:xfrm>
            <a:off x="152280" y="200160"/>
            <a:ext cx="8763120" cy="6352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g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n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ch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30492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304920" y="22860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763120" cy="642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152280" y="228600"/>
            <a:ext cx="876312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6263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aff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21:45:55Z</dcterms:created>
  <dc:creator>Linda Rush</dc:creator>
  <dc:description/>
  <dc:language>en-US</dc:language>
  <cp:lastModifiedBy>kennedyp</cp:lastModifiedBy>
  <dcterms:modified xsi:type="dcterms:W3CDTF">2010-11-18T15:49:53Z</dcterms:modified>
  <cp:revision>6</cp:revision>
  <dc:subject/>
  <dc:title>Slide 1</dc:title>
</cp:coreProperties>
</file>